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2739-8D4C-4FC5-8706-3BE20172E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1D09-330D-4EC7-92A6-BB80992F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0EB6-662F-4F90-8C7B-5D5075C0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C4EA-8E8E-473F-9472-9D305454D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D29F-F78B-412C-95F3-67E8C20E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6979-AF9C-433D-B517-4C7A03A1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ED25-3F3C-4A35-A1B9-49D2CD7C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BB06-49AE-4520-84FD-C20EC687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C68C-F7F5-42E9-A79C-3CD3637F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A0CD-4824-4648-BD5B-A0C5171A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060A-7CCC-4C80-9F31-ECC643F3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AC49-C480-4CCA-ADA1-F1F5F99B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CAED-42F1-4638-9EE8-840794E66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457200" y="2286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Lucida Sans"/>
              </a:rPr>
              <a:t>Population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0" y="94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* Population size doesn’t matter </a:t>
            </a:r>
            <a:r>
              <a:rPr b="1" i="1" lang="en-US" sz="3200" spc="-1" strike="noStrike">
                <a:solidFill>
                  <a:srgbClr val="000099"/>
                </a:solidFill>
                <a:latin typeface="Lucida Sans"/>
              </a:rPr>
              <a:t>as long 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0" y="1676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* Population &gt; 10*n   (10*sample siz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0" y="2484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* As long as your sample is random, and your population is big enough, its size doesn’t matter to the variability of the statistic (the result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228600" y="3808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Lucida Sans"/>
              </a:rPr>
              <a:t>Try p. 232 #42 a &amp;b, 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228600" y="1066680"/>
            <a:ext cx="8915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Lucida Sans"/>
              </a:rPr>
              <a:t>42 (a) </a:t>
            </a: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I am 95% confident that the true percent of the population that think Women had to give up too much to get better jobs is between 45% and 51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28600" y="3652920"/>
            <a:ext cx="8915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Lucida Sans"/>
              </a:rPr>
              <a:t>42 (b) </a:t>
            </a: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Because 48% is just from the one sample (the one poll).  Samples are not always representative of the population.  This is why we need the margin of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76320" y="228600"/>
            <a:ext cx="8915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Lucida Sans"/>
              </a:rPr>
              <a:t>43) </a:t>
            </a: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Men = 472</a:t>
            </a: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margin of error = 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Women = 1025</a:t>
            </a: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margin of error = 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152280" y="2028960"/>
            <a:ext cx="8915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The margin of error for the men was larger because they had a smaller sample size.  So their sample is more </a:t>
            </a:r>
            <a:r>
              <a:rPr b="1" i="1" lang="en-US" sz="3200" spc="-1" strike="noStrike">
                <a:solidFill>
                  <a:srgbClr val="000099"/>
                </a:solidFill>
                <a:latin typeface="Lucida Sans"/>
              </a:rPr>
              <a:t>variable</a:t>
            </a: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 (wider histogram, less accurate)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380880" y="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Lucida Sans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52280" y="663480"/>
            <a:ext cx="883944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There are two local high schools, Central High and North High.  Central has 1,000 students and North has 3,500 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A researcher wants to determine the average income for the families that send their students to the different high school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He has 2 different sampling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Sample 5% from eac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Sample 100 students from eac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380880" y="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Lucida Sans"/>
              </a:rPr>
              <a:t>Try the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152280" y="66348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 </a:t>
            </a: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p. 234-235 #45 &amp; 4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gin of Error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Stat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457200" y="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Lucida Sans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28600" y="533520"/>
            <a:ext cx="868680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A newspaper article states that they took a poll of Americans and found that 65% of them think the President is doing a good job.  They say that they are 95% confident about their results, but they have a margin of error of plus or minus3%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Lucida Sans"/>
              </a:rPr>
              <a:t>What can you infer about the % of ALL Americans that think he’s doing a good job?  Do you trust their resul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28600" y="380880"/>
            <a:ext cx="868680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The same newspaper prints an article the next day saying that they were wrong, that they have a margin of error of 30%, not 3%.  They are still 95% confident in their results though!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Lucida Sans"/>
              </a:rPr>
              <a:t>What can you infer about the % of ALL Americans that think the President is doing a good jo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28600" y="380880"/>
            <a:ext cx="868680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The same newspaper prints another article.  They took a new sample because their realized their margin of error was too high before.  So now they have a margin of error of 5%.  But they are only 60% confident in their results now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Lucida Sans"/>
              </a:rPr>
              <a:t>What can you infer about the % of ALL Americans that think the President is doing a good jo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228600" y="380880"/>
            <a:ext cx="8686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Lucida Sans"/>
              </a:rPr>
              <a:t>Margin of Err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Want it to be a low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28600" y="177804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Its always a plus or minus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228600" y="246384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Usually paired with a level of conf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28600" y="31240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Use both the level of confidence and the margin of error to decide whether you trust th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28600" y="48322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Lucida Sans"/>
              </a:rPr>
              <a:t>Larger samples mean lower margin of erro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228600" y="380880"/>
            <a:ext cx="8686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Lucida Sans"/>
              </a:rPr>
              <a:t>Confidence Stat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Use both level of confidence, and margin of error, conclude about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152280" y="2479680"/>
            <a:ext cx="8915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Example: 90% confident that 45% vote for Democrat, having a margin of error of 3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Lucida Sans"/>
              </a:rPr>
              <a:t>I am 90% confident that the true percent of the population that will vote for the Democrat is between 42% and 48%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2:54:33Z</dcterms:created>
  <dc:creator>Lauren Senske</dc:creator>
  <dc:description/>
  <dc:language>en-US</dc:language>
  <cp:lastModifiedBy>Lauren Senske</cp:lastModifiedBy>
  <dcterms:modified xsi:type="dcterms:W3CDTF">2010-10-15T12:53:09Z</dcterms:modified>
  <cp:revision>19</cp:revision>
  <dc:subject/>
  <dc:title>Slide 1</dc:title>
</cp:coreProperties>
</file>